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1FB-F0F0-4A90-B1C8-7306E98D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803-6BF0-42FD-9A71-F126BDF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48D-B670-41EB-9543-A430200E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5B5-0904-402E-AFB4-1607A7B8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DA3-F6A6-43E1-A807-AF2BCB2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32F-D09B-469C-B77A-71842DD7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C14-18CA-4745-ABF1-1808A32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B3E-2439-4B1C-A540-B97DD1F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CC2-3368-4C40-A3A3-B8A3776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BE5-F342-421D-9D4A-E4DE2932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970-8B0C-404A-B29D-AF3DD5D6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860-1A33-4C7E-8485-522DDDF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8CC3-77AF-44C6-B447-0AC857E139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637000"/>
            <a:ext cx="856908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rtin Luther K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2581200" cy="27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09760" cy="236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4720" y="189000"/>
            <a:ext cx="2489400" cy="248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10480" y="3828960"/>
            <a:ext cx="233352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3790800"/>
            <a:ext cx="3276720" cy="26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843280" y="260280"/>
            <a:ext cx="302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100320"/>
            <a:ext cx="6227640" cy="37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835280" y="0"/>
            <a:ext cx="5400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LD ALANTA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27808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411280" y="260280"/>
            <a:ext cx="35067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S FAMILY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23338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764160" cy="5018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1700280"/>
            <a:ext cx="21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F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55640" y="2421000"/>
            <a:ext cx="71280" cy="107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71640" y="162864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349360"/>
            <a:ext cx="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12000" y="26028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ILDR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7020000" y="765000"/>
            <a:ext cx="7308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0"/>
            <a:ext cx="391320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BUS BOYCOT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08480" cy="47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68920" y="449280"/>
            <a:ext cx="437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835280" y="0"/>
            <a:ext cx="51703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 HAD A DREAM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484280"/>
            <a:ext cx="7775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I HAVE A DREAM THAT MY FOUR LITTLE CHILDREN WILL ONE DAY WILL LIVE IN A NATION WHERE THEY WILL NOT BE JUDGEED BY THE COLOUR OF THEIR SKIN BUT BY THE SORT OF PERSONS THE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I HAVE A DREAM THAT ONE DAY … ALL OF GODS CHILDREN , BLACK MEN AND WHITE MEN JEWS GENITILES ,PROTESTANTS AND CATHOLICS WILL BE ABLE TO JOIN HANDS AND SING IN THE WORDS OF THE BLACK PEOPLES OLD SONG ,``FREE AT LAST FREE AT LAST THAK GOD ALMIGHTY ,WEARE FREE AT LAST.`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6:49:01Z</dcterms:created>
  <dc:creator>Anthony</dc:creator>
  <dc:description/>
  <dc:language>en-US</dc:language>
  <cp:lastModifiedBy>nb</cp:lastModifiedBy>
  <dcterms:modified xsi:type="dcterms:W3CDTF">2007-03-23T10:45:36Z</dcterms:modified>
  <cp:revision>3</cp:revision>
  <dc:subject/>
  <dc:title>Slide 1</dc:title>
</cp:coreProperties>
</file>